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74400" y="726840"/>
            <a:ext cx="2511720" cy="362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lstStyle>
            <a:lvl1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4C8B558D-966D-4CD5-A35F-C87CBE50889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079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b">
            <a:no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88B5B1CA-5C82-4909-9FFA-865FCD7015A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174760" y="727200"/>
            <a:ext cx="2511720" cy="36255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4AF1-1417-4369-A19B-575E2825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796-1FAF-4A8A-9192-68B58CEF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54C3-D72F-4950-8729-0C6BA986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8A26-EFDA-46CA-BA3A-D1A4E4D3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946-ECCF-4ABD-BFAF-12783260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2B45-F4E2-4BC1-A9A3-7A8EA010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076-4F90-4CD9-ACB3-13B9E953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1707-4731-4213-A94C-DF9134D4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913-68CC-45CD-B923-2FF7FACD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FCA0-4814-4847-BE81-6E5DE966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01D-E53E-4697-B767-B6BA572D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B4F-BD3C-4E2C-8A0E-2967F123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GB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F5478904-C37D-444B-97FF-A7F57F195BFE}" type="slidenum"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24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97"/>
          <p:cNvSpPr/>
          <p:nvPr/>
        </p:nvSpPr>
        <p:spPr>
          <a:xfrm>
            <a:off x="533520" y="1676520"/>
            <a:ext cx="5919840" cy="1339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Modernizare Strada Cserey Janosne, situata intre strada Ghioceilor si Panorama Lunii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23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8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WordArt 255"/>
          <p:cNvSpPr txBox="1"/>
          <p:nvPr/>
        </p:nvSpPr>
        <p:spPr>
          <a:xfrm>
            <a:off x="1752480" y="79246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RTIZA TEHN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lucian</cp:lastModifiedBy>
  <cp:lastPrinted>2009-02-10T18:44:43Z</cp:lastPrinted>
  <dcterms:modified xsi:type="dcterms:W3CDTF">2014-06-08T13:20:19Z</dcterms:modified>
  <cp:revision>179</cp:revision>
  <dc:subject/>
  <dc:title>PowerPoint Presentation</dc:title>
</cp:coreProperties>
</file>